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68C-0EEE-424E-9B9D-B077C51D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081D-DC05-4C71-AA50-E0D39A7D1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221-ADCC-40EA-95E2-E10E76A1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847-CF65-49B7-9543-1C5F85AC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6A7-E5B0-4FD1-A393-E78EE02E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62E-FF92-4043-8B8F-E6012837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1D6B-B655-4A8D-AA39-02464C44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3298-8FFD-40F8-8EF7-3CA70AF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1DE5-35F5-4876-963E-7539397A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1889-79AF-43A6-AD19-A4CD453F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BD6-E552-432E-A7F4-C55A21E8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FC50-7FFB-403A-9A21-E8F2FE91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B019-822B-4801-BC6C-F9681B50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8C9-EE4D-478E-BDB7-A69D3C6F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8266-3C2A-4C8A-82B2-AF6E766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746-F078-4DAF-AB5A-A7DD5F74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936C-AD44-4BA6-9C75-5AD997FA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D66E-6F4F-40D0-A299-445BEC5B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9EFF-73CE-4D4F-9DBC-DEA3418B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C71-8248-40CA-895E-1DF809A4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499-4517-4CCD-9302-F953A5CF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233-5BF1-4D21-BEC5-3E89EFAA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AC6D-9549-42C0-B493-ECA6053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D02-DB8D-4CA4-9897-4FEFC33F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EAAD-7B51-4D1B-86C0-6D452DC8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E621-AAFE-4455-A3C5-CBC6A32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EC5-A1EF-4D62-A7FC-BE2CBA62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2D3B-505E-496B-95B7-311A53768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the Write Tr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2880" y="41907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enty Common Errors and Ways to Correct Them: A Guide to Bet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Subjects and verbs must agree in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One of my goals have been to go to la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my goal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en to go to law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Neither of the children like spin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of 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k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in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e passenger, along with the driver, were inj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senger, along with the driver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j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Here’s the keys you w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keys you wa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Pronouns and their antecedents must agree in gender and number.  Pronoun references should be clear, not vag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31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Someone forgot their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forgot his or her 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Every student should have thei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tudent should have his or her text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ents should have their text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Jane looked at her mother as she opened the g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ing the gift, Jan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e looked at her mother opening the gi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Do not shift or change the tenses of verbs.  Choose a tense and stay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She works hard but made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s hard but makes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orked hard but made little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ormal essays about literature in the present t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hakespeare characterizes Hamlet as a man of indecision.  He cannot decide whether “to be or not to b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 Do not use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pronoun “you” in formal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Good writers make you want to rea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writers make one want to rea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TV commercials try to make you buy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 commercials try to make viewers buy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 Avoid using passive voice verbs.  The subject of the sentence should do the “verbing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 voice verbs are weak and can obscure respons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“Mistakes were made.”  “Slaves were brought to Americ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ive: The ball was hit by S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: Sally hit the 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is better when it contains active, strong, and precise verbs.  Avoid the verb “seem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 Avoid “there are,” “there is,” and “it is.”  Let the subject of the verb preced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There are many students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 are in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It is difficult to understand the theme of the s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theme of the story is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K to say, for example, “It’s rain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 Avoid using “this,” “that,” “these,” and “those” as nouns.  Try to use them as adjectives followed by no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hould a sentence begin with this, that, or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I lost five dollars.  That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ing five dollars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st five dollars.  That loss really made me m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at was the worst movie I have ever 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ovie was the worst I have ever s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like that kind of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 Avoid these expressions: is where, is how, is when, is because, and is why.  Especially avoid “the reason… is becaus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313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Elsinore castle is where Hamlet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inore castle is the place where Hamlet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Picking the right numbers is how to win the lo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ing the right numbers is the way to win the lo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A touchdown is when the ball crosses the goal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uchdown occurs when the ball crosses the goal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The reason I like to ski is because it’s a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ike to ski because skiing is a challe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 Avoid misplaced, dangling, or appended participial phr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Rising over the hill, the men saw the bright red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n saw the bright red sun rising over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He fell down the steps, breaking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ling down the steps, he broke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fell down the steps and broke his l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 Avoid thesaurus goofs—use the proper meaning of a word.  Check spel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1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In winter we should w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p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ot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sunlight effec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yo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oan me a dol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ove you sinc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are k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taller then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 br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ed words may show laziness or careless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t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ate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pa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e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s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o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igh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Fragments are incomplete thoughts.  Sentences must be complete thou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My parents are strict.  Like when they won’t let me stay out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parents are strict; they won’t let me stay out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The school has many rules.  For example not chewing g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hool has many rules.  For example, chewing gum is not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We went to the mall.  But didn’t see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nt to the mall but didn’t see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-685800"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orrect wor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/it’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/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/two/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shows possession, e.g. The cat licked its f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is a contraction meaning “it is.”  e.g. It’s 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adverb.  e.g.  Let’s go there after lu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shows possession.  e.g. Let’s go to their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s a preposition.  e.g. Let’s go to the mov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ells how many.  e.g. Let’s see two mov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eans “very” or “also.”  e.g. That cake is too sweet.  Let’s invite her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day is an adjective; every day is an adjective + 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  Use apostrophes, semicolons, and colon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ostrophe (’) shows poss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John’s coat is on the chair.  That coat is Joh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 coach’s advice helped the team win the g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micolon (;) joins two independent clau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 bus will leave soon; students should be rea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lon (:) introduces a list or replaces “namely” in an explanation or example.  Never use a colon after a ver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The seasons of the year are: winter, spring, summer, and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year has four seasons: winter, spring, summer, and 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  Use commas after an introductory word, expression, or ph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kly my dear, I don’t give a dam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 the game, we needed l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, he climbed the mou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, only you can dec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strated, he quit the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ing his best to understand, John read slow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While we were eating the dog began to b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wo years before the peace treaty had been sig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  Use quotes around the titles of articles, short stories, songs, and poems; use italics or underline for magazines, newspapers, movies, books, novels, record albums, or p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47560" y="2438280"/>
            <a:ext cx="7313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ven” po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cb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line” short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bec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en Drug Use” arti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s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ves Cry” s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le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b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concise and direct in wri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731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The reason that we are meeting is that we need to consider revising the co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meeting to consider revising the co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e redund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He didn’t return the book back to the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As a rule, the hero usually triumphs over the vil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Prepay before pumping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un-ons = two sentences “run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The current was swift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. 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, and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was swift; he could not sw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omma splices are two sentences “spliced” (joined) with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I like her very much,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comma splices the way you would a run-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. 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, and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 her very much; she has a sense of hu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as should precede coordinating conjunctions when joining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ma before the words and, or, but, nor, for, yet, or so when these words join two independent clauses (sent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e acronym “fanboy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, but no job wa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ma is used when joining a dependent clause o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 if he could find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e wanted to work but couldn’t find a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274680"/>
            <a:ext cx="7313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Commas should be used correctly when joining independent and dependent clauses containing a subordinating conj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7313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pendent clause comes first, a comma should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Because the roads were icy, school was cl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ma is not necessary when the dependent clause follo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chool was closed because the roads were 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Subordinating Conj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73897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Sentences connected by a conjunctive adverb must be separated by a semicolon or period, not just a com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560" y="2057400"/>
            <a:ext cx="731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John flunked math, therefore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; therefore,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.  Therefore, he didn’t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ve adverbs work best at the front of a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John flunked math.  He did, however,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flunked math.  However, he did gradu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Conjunctive Ad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the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14:31:30Z</dcterms:created>
  <dc:creator>dhuff</dc:creator>
  <dc:description/>
  <cp:keywords/>
  <dc:language>en-US</dc:language>
  <cp:lastModifiedBy>Chrissi Ritzius</cp:lastModifiedBy>
  <dcterms:modified xsi:type="dcterms:W3CDTF">2010-05-05T22:29:27Z</dcterms:modified>
  <cp:revision>4</cp:revision>
  <dc:subject/>
  <dc:title>On the Write Tra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33</vt:lpwstr>
  </property>
</Properties>
</file>